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5ABC-AF49-4E2C-B19D-1D98DDCC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FD2-25D9-4CE5-A572-FA8D5CE1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F9C-8C60-4BFE-8210-25910815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E733-0C03-4D8B-B7FC-5437BBB6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157-6A7A-4945-A63C-8EB8BFD5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DF4-A6D6-4206-8681-74E3124D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EDC-38DE-42B0-A3B6-C1F6AF97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5DC-E2A6-41C3-AE44-DAB91051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ABF-A267-4FF4-8D19-D48A0337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925-130E-451E-B269-18178A67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7DF-3D66-44D1-884F-69EB315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771-31DB-45A3-AC2D-7260F3D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0263-DF8A-4050-B50E-86FA4C425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1: The L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632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ist a minimum of 50 things you use in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verything from the alarm clock that wakes you up to the plate your dinner was 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ore than 60 is considered Advanced (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f you repeat, only count it once towards your 5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What is the primary natural resource that is used to make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is might take a little research for some i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ke sure you are actually putting down a natural resources (wood and plastic are not natural resourc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long do you use it until you replace or dispose of it (days, weeks, months, years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How can you Reduce, Reuse or Recycle it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 is there a more environmentally friendly alternativ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inal Project – Part 2: Eco-W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240" y="11426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You are the center of the web!!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out from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oos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t leas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20 different things from your lis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oose the items with your BEST IDEAS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list item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natural resource each item comes fr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3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layer of web spreading from natural resour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ow long that item lasts before disposal/replac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1" lang="en-US" sz="30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th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layer of web spreading from tim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HOW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you are going to be more environmentally friendly for each it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Make this layer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STAND OUT!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***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Model Personal Eco-Web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3"/>
          <p:cNvSpPr/>
          <p:nvPr/>
        </p:nvSpPr>
        <p:spPr>
          <a:xfrm>
            <a:off x="228600" y="5257800"/>
            <a:ext cx="144792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1066680" y="2971800"/>
            <a:ext cx="1295640" cy="838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2971800" y="3276720"/>
            <a:ext cx="2209680" cy="1523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Natural Re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6"/>
          <p:cNvSpPr/>
          <p:nvPr/>
        </p:nvSpPr>
        <p:spPr>
          <a:xfrm>
            <a:off x="7010280" y="0"/>
            <a:ext cx="2133720" cy="3200400"/>
          </a:xfrm>
          <a:prstGeom prst="ellipse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Calibri"/>
              </a:rPr>
              <a:t>HOW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 to reduce, reuse, recycle, or change what you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7"/>
          <p:cNvSpPr/>
          <p:nvPr/>
        </p:nvSpPr>
        <p:spPr>
          <a:xfrm>
            <a:off x="3886200" y="1523880"/>
            <a:ext cx="2209680" cy="1447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ime before dis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9"/>
          <p:cNvCxnSpPr>
            <a:stCxn id="46" idx="7"/>
            <a:endCxn id="47" idx="3"/>
          </p:cNvCxnSpPr>
          <p:nvPr/>
        </p:nvCxnSpPr>
        <p:spPr>
          <a:xfrm flipH="1" flipV="1">
            <a:off x="1256760" y="3687480"/>
            <a:ext cx="207000" cy="1783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11"/>
          <p:cNvCxnSpPr>
            <a:stCxn id="47" idx="6"/>
          </p:cNvCxnSpPr>
          <p:nvPr/>
        </p:nvCxnSpPr>
        <p:spPr>
          <a:xfrm>
            <a:off x="2362320" y="3390840"/>
            <a:ext cx="915120" cy="115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4"/>
          <p:cNvCxnSpPr>
            <a:endCxn id="50" idx="4"/>
          </p:cNvCxnSpPr>
          <p:nvPr/>
        </p:nvCxnSpPr>
        <p:spPr>
          <a:xfrm flipV="1">
            <a:off x="4648320" y="2971440"/>
            <a:ext cx="34344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15"/>
          <p:cNvCxnSpPr>
            <a:endCxn id="49" idx="2"/>
          </p:cNvCxnSpPr>
          <p:nvPr/>
        </p:nvCxnSpPr>
        <p:spPr>
          <a:xfrm flipV="1">
            <a:off x="6019560" y="1599840"/>
            <a:ext cx="99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TextBox 19"/>
          <p:cNvSpPr/>
          <p:nvPr/>
        </p:nvSpPr>
        <p:spPr>
          <a:xfrm>
            <a:off x="533520" y="4795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0"/>
          <p:cNvSpPr/>
          <p:nvPr/>
        </p:nvSpPr>
        <p:spPr>
          <a:xfrm>
            <a:off x="1066680" y="25146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"/>
          <p:cNvSpPr/>
          <p:nvPr/>
        </p:nvSpPr>
        <p:spPr>
          <a:xfrm>
            <a:off x="3505320" y="4724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2"/>
          <p:cNvSpPr/>
          <p:nvPr/>
        </p:nvSpPr>
        <p:spPr>
          <a:xfrm>
            <a:off x="4343400" y="1066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7467480" y="3124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-76320" y="76320"/>
            <a:ext cx="929664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2060"/>
                </a:solidFill>
                <a:uFillTx/>
                <a:latin typeface="Comic Sans MS"/>
              </a:rPr>
              <a:t>You have OPTION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omic Sans MS"/>
              </a:rPr>
              <a:t>How would you like to display this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Most people make their eco-web on a pos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make your eco-web online at mind42.com or a similar websi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You could also make it in a program like Inspir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- Do you have another idea how you can display the same information in a different wa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762120"/>
            <a:ext cx="72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1 and 2 should both be complete by the beginning of class on Wednesd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dnesday we will be starting Part 3 of the final projec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4:47:56Z</dcterms:created>
  <dc:creator>User</dc:creator>
  <dc:description/>
  <dc:language>en-US</dc:language>
  <cp:lastModifiedBy>Cari Schruth</cp:lastModifiedBy>
  <dcterms:modified xsi:type="dcterms:W3CDTF">2009-11-01T14:47:53Z</dcterms:modified>
  <cp:revision>110</cp:revision>
  <dc:subject/>
  <dc:title>Monday, 10/19/09    Session 33</dc:title>
</cp:coreProperties>
</file>